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1623-1611-4955-9032-222A5538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03B-4A75-4D07-8C3B-C4FF44C3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91B-833A-4263-BB3A-679043C6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284E-4FB1-43B1-B43D-B228D13F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4F8-9B2B-4EA4-9C92-B3B537B4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D15-C4C8-4575-8440-D2CED6DF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6C87-DEAD-4F2E-ADBB-D1D4DEAA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0A7-B34C-4A0F-B4D9-16E8AA3A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5434-8826-4186-85AF-AB38ADC8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5AA9-13AF-41AA-843B-5F9A8711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4024-3B5F-46F7-9F73-9B2872AA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BEE-17C6-401B-9C5C-AD97EE02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2F42-7630-4B72-A3F5-909DE8864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Why do Writer’s Wr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:  Express and Refl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:  Inquire &amp; 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:  Inform &amp; 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:  Analyze &amp; Interpr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5:  Take  A St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6:  Evaluate &amp; Ju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7:  Propose a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8:  Look for Common 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4:26:32Z</dcterms:created>
  <dc:creator>BPS</dc:creator>
  <dc:description/>
  <dc:language>en-US</dc:language>
  <cp:lastModifiedBy>BPS</cp:lastModifiedBy>
  <dcterms:modified xsi:type="dcterms:W3CDTF">2009-09-21T15:50:23Z</dcterms:modified>
  <cp:revision>2</cp:revision>
  <dc:subject/>
  <dc:title>Why do Writer’s Write?</dc:title>
</cp:coreProperties>
</file>